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DC3-178A-448E-A160-930C3CA1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646-3B0A-436F-9B1A-B6290A2A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33D-3FC1-47D7-95E5-79EA72CA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8A6-1FAF-4647-90D4-47283CE0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064-DF7A-41BE-891C-156A73A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E32-DB25-4A99-9EC1-784E52C7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087-3B4A-457E-A40C-C7BB0C7B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911-8CC1-41BE-B5F1-E8D473B3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566-4B40-4C03-B237-7D1B6407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9B2-3726-4890-94FE-97D14A8F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290-B1BE-45B2-9587-980F4DC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2BB-373A-4813-BF72-5F294E4D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23D7-09A2-4B9B-99BA-19F7B6B7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res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y to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ed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pa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d maintain hig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– Legislative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mpeachmen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accuse government officials of wrongdoing, put them on trial, and if necessary remove from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pprove presidential appointm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nyone who the President picks for a government job must be approved by the Se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pprove the Budg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Congress must approve the President’s plan for spending money for the upcoming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Fy2007spendingbycategory"/>
          <p:cNvPicPr/>
          <p:nvPr/>
        </p:nvPicPr>
        <p:blipFill>
          <a:blip r:embed="rId1"/>
          <a:stretch/>
        </p:blipFill>
        <p:spPr>
          <a:xfrm>
            <a:off x="4267080" y="213372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n – Contra Scan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of Congress’ important powers i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 to investigate government ac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1987-88 , Congress investigated wrongdoing by members of the Regan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ere accused of illegally selling weapons to Iran in order to fund rebel fighters in Nicar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ficials were found guilty of crimes, but the President was not accused of any wrong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3920" y="990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achment starts with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of Representatives votes on whether to impeach, or acc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ate then holds a t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cide if the official is kicked out of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2 U.S. Presidents have been impeached, Andrew Johnson and Bill Clinton.  Neither was removed from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xecutive and judicial officials are subject to impeachment, not just the 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Andrew_Johnson_-_3a53290u"/>
          <p:cNvPicPr/>
          <p:nvPr/>
        </p:nvPicPr>
        <p:blipFill>
          <a:blip r:embed="rId1"/>
          <a:stretch/>
        </p:blipFill>
        <p:spPr>
          <a:xfrm>
            <a:off x="228600" y="1066680"/>
            <a:ext cx="2333520" cy="2849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Bill Clinton"/>
          <p:cNvPicPr/>
          <p:nvPr/>
        </p:nvPicPr>
        <p:blipFill>
          <a:blip r:embed="rId2"/>
          <a:stretch/>
        </p:blipFill>
        <p:spPr>
          <a:xfrm>
            <a:off x="2590920" y="3581280"/>
            <a:ext cx="2143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Houses, there are floor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y with the most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known a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jorit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y with less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norit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rty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leade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whip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is the leader’s a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y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y leaders try and get their members to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ntrol who gets on important committees, where much important work 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control who speaks and what issues are dealt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several types of committees in Cong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nding Committe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ecializes on a specific top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ubcommitte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perate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der a standing committee on a more specialized top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nference Committe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k out compromises between the House and Senat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hen they pass different versions of the same b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ional I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mber of Congress can say whatever they want on the floor.  They are protected from slander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be arrested while doing thei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free debate on importa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6171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56, Senator Preston Brooks of South Carolina beat Senator Charles Sumner of Massachusetts during a debate on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ssault on Senator Sumner, 1856.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19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ional Accoun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are not totally above the law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ember commits a serious crime or is involved in a scandal, they can be discip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ul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whe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is remov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disapprov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given when a member does something illegal or unethical, but not serious enough to kick the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571500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man Jim Traficant (OH) was expelled in 2002 for co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James Traficant"/>
          <p:cNvPicPr/>
          <p:nvPr/>
        </p:nvPicPr>
        <p:blipFill>
          <a:blip r:embed="rId1"/>
          <a:stretch/>
        </p:blipFill>
        <p:spPr>
          <a:xfrm>
            <a:off x="685800" y="1752480"/>
            <a:ext cx="3110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ional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has 3 basic types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ressed 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listed in the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i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aken in the nam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 and proper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legislative 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wers not related to making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ed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in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feder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pos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immigration and natu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02:21:03Z</dcterms:created>
  <dc:creator>Osama Agami</dc:creator>
  <dc:description/>
  <dc:language>en-US</dc:language>
  <cp:lastModifiedBy>Phillip McGinnis</cp:lastModifiedBy>
  <dcterms:modified xsi:type="dcterms:W3CDTF">2010-12-07T15:44:43Z</dcterms:modified>
  <cp:revision>19</cp:revision>
  <dc:subject/>
  <dc:title>Slide 1</dc:title>
</cp:coreProperties>
</file>